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F88C-C11B-49A1-AD20-423B2CD4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FB2-F918-4BC1-8709-1B075690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27E-4802-41BA-A4D8-39035DF2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BA6-0C37-40DE-9509-4ABF47F5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EB8E-78E6-48C8-B5F3-1CE9BEC4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2F44-C3B7-4D3C-8F6D-29DBDE76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C532-3861-4930-8CBD-A82C7799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B426-8EDD-499E-B093-3B1B36E3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2940-003D-4235-86D1-5D56D1D8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6CE0-ECB3-4541-B047-59219F7E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6477-1229-4F9F-A812-1D50E121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A7B-96B1-4104-9AC0-78894624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0684-D3FB-4B21-BF6F-5862AB2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2211-8525-4AEC-9FA2-EF3E4344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FE45-07E5-40A5-A0F7-5F489AC5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FA44-7840-4713-AB47-A1A8C043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6D75-2565-49A6-85D3-9101BC98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76D-E5AA-4631-9AEE-2AE70CFC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845-D5C8-4754-B9EA-C0941EC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60A-9257-49DC-8722-54C17F44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3ED-8134-4595-982E-4691BD97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000-FC00-40B3-8504-EFA7C6A5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212-D397-46B1-ABD4-35EC004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284-B530-48D3-B9F3-6C3625C5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D3B0-F36B-4448-AA3C-4952CFEFE1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C5F4-2682-43FB-9317-83E500CDFD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enesis 25:19 – 28:9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on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Key Poi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of Jacob and Es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usual Circumstances: The Answered Prayer of Rebekah, And The Prophecy of Two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ot of Jacob To Take Esau’s Birth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akness of Esau In Giving It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Key Poi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aac And Abimel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au Grieves Isaac and Rebekah By Intermarrying With Hitt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ekah Helps Jacob Trick Isaac Into Giving The Inheritance Rights To Jacob Instead of Es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 Fled For His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7:09:27Z</dcterms:created>
  <dc:creator>Terry W. Benton</dc:creator>
  <dc:description/>
  <dc:language>en-US</dc:language>
  <cp:lastModifiedBy>Terry W. Benton</cp:lastModifiedBy>
  <dcterms:modified xsi:type="dcterms:W3CDTF">2004-08-29T04:58:29Z</dcterms:modified>
  <cp:revision>3</cp:revision>
  <dc:subject/>
  <dc:title>Genesis 25:19 – 28:9</dc:title>
</cp:coreProperties>
</file>